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887-EE1E-4335-9440-224B3798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8F2-54D7-49EC-9FAA-C933062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9BF-4F37-4EFC-8AE4-409FA05E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F55-70A2-4C35-95C2-E2971335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7DD9-F80D-45D7-B6D8-6B4DEC13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CD6F-C6B2-4368-8644-902660BF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5B7B-E2BB-4A83-A584-664B71E3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9428-C353-467F-97B3-341E9771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7396-4D73-428B-8997-77D507DE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4FED-CEDE-4371-8CF2-D3FF482E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25E1-7E3C-4126-8E5B-F01A41E2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976-828C-431A-8A6B-F060AD5E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1EC1-B6F3-4D97-AF8B-1FC90617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8857-0901-4C47-8113-ED1DAFE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838E-6A1E-490C-9DE0-2B411C2F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CAB9-C194-4956-9B58-C473B0F2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E01D-C380-427F-B2A6-284C1E51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B8C-4EDB-4ABA-A34D-AC0AD339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7E7-5D9D-43B2-BF5B-979A666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A08-5DFF-48BB-8AD8-07A27FAF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EAB-5934-4DA6-96AB-35696B2D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698-C8FE-4A2B-B037-5E85BD3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B83-15CE-4E03-8A10-0029A486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754-37EA-43A6-BC04-949EA73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D98A-CE2D-429F-8586-71B555381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4FDD-F0F2-4AAF-8F2C-F36E7F92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Scientific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Steps to Follow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cientific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ientific Metho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series of steps to follow to answer a question or solve a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are 5 main ste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MCj02979350000[1]"/>
          <p:cNvPicPr/>
          <p:nvPr/>
        </p:nvPicPr>
        <p:blipFill>
          <a:blip r:embed="rId1"/>
          <a:stretch/>
        </p:blipFill>
        <p:spPr>
          <a:xfrm rot="798000">
            <a:off x="5867280" y="3581280"/>
            <a:ext cx="19544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1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sk a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sts ask questions based on observations from their surroun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MCj04344110000[1]"/>
          <p:cNvPicPr/>
          <p:nvPr/>
        </p:nvPicPr>
        <p:blipFill>
          <a:blip r:embed="rId1"/>
          <a:stretch/>
        </p:blipFill>
        <p:spPr>
          <a:xfrm>
            <a:off x="5410080" y="3809880"/>
            <a:ext cx="2167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629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2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m a Hypo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an educated guess about what you think the answer is to you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MCj00822790000[1]"/>
          <p:cNvPicPr/>
          <p:nvPr/>
        </p:nvPicPr>
        <p:blipFill>
          <a:blip r:embed="rId1"/>
          <a:stretch/>
        </p:blipFill>
        <p:spPr>
          <a:xfrm>
            <a:off x="4876920" y="3581280"/>
            <a:ext cx="284796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3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st your hypo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up an experiment to test you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MCj0292116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3106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4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nalyze Your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your results and decide what they tell you about you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MCBD06630_0000[1]"/>
          <p:cNvPicPr/>
          <p:nvPr/>
        </p:nvPicPr>
        <p:blipFill>
          <a:blip r:embed="rId1"/>
          <a:stretch/>
        </p:blipFill>
        <p:spPr>
          <a:xfrm>
            <a:off x="4343400" y="3581280"/>
            <a:ext cx="3200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5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m a 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de what the answer to your question is and ask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my hypothesis right or wrong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I need to do the experiment again to find out more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MCj04298270000[1]"/>
          <p:cNvPicPr/>
          <p:nvPr/>
        </p:nvPicPr>
        <p:blipFill>
          <a:blip r:embed="rId1"/>
          <a:stretch/>
        </p:blipFill>
        <p:spPr>
          <a:xfrm>
            <a:off x="6068880" y="4191120"/>
            <a:ext cx="19735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2:54Z</dcterms:created>
  <dc:creator>K. Ubbing</dc:creator>
  <dc:description/>
  <dc:language>en-US</dc:language>
  <cp:lastModifiedBy>Denice Fogel</cp:lastModifiedBy>
  <dcterms:modified xsi:type="dcterms:W3CDTF">2012-08-27T02:56:01Z</dcterms:modified>
  <cp:revision>7</cp:revision>
  <dc:subject/>
  <dc:title>The Scientific Method</dc:title>
</cp:coreProperties>
</file>